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9B6-8ED2-4339-869C-09892D5E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to these children as a result of being disaffected for many ye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roup drops out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7 – 8 …. “What Happened?” ---- collaboration, working together,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one, write it down so you COMM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CB9-B795-47A5-B791-535F6BB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1D3-F43A-440C-BF57-CAF08A2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3E7-CC53-4D2A-8955-C8EF3EF5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193-0995-4684-96C6-5B692DFC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F12E-704E-4D70-9A30-A6377F99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D85E7-1FCD-499A-8F06-EA465C0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5E59C-C7D3-4D40-8932-E439435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558A3-B580-470D-A861-251995F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0BD4-CCB0-42F9-A4D4-A0CAF8A3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8BCCE-046A-4EAA-8E4A-F5000B8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43B7-71FE-428A-ABFB-0D9FFE5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0A5-90A4-4373-84D2-A9F84324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DF4F5-6945-4696-9998-CF20F23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76FC-925C-4145-8A40-6EE49FA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EC9A9-B389-4CF5-B9FA-F06F0582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7F9A9-175D-4E03-8FB3-5CFE7FF2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E112C-E661-4DE2-9CB9-1BD14F7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EC6-BD43-40DD-9F28-7C0147C9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17C-4156-456C-9AF9-581FB0B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7A2-E465-468A-952B-73296BC9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C2A-2652-4E58-9F7E-7091C5F0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5DD-FFFC-4E45-9867-4BD5BD9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EE0-FBFD-4253-9DDD-C021446F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138-E312-4AC4-93D7-E8FC084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E572-C98F-46CC-9CAB-CD7A18DD7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6DA6-8B94-4543-9812-0877C73EA9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nfiction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Engaging &amp; Motivating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51814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4038480"/>
            <a:ext cx="17398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38680" y="4078440"/>
            <a:ext cx="2190960" cy="1388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715000" y="4125960"/>
            <a:ext cx="2114640" cy="134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286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4343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ho Drop Ou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2038320" cy="1292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sonalization to help disaffected student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own talents and aspi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pathway toward their own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 cooperativ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others on challenging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tain a rec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ir explorations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monstrate their l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clear standards in a variety of med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with the close support of Adult Mentors &amp; Gu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’s happening with personaliza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447920"/>
          <a:ext cx="8229600" cy="4538520"/>
        </p:xfrm>
        <a:graphic>
          <a:graphicData uri="http://schemas.openxmlformats.org/drawingml/2006/table">
            <a:tbl>
              <a:tblPr/>
              <a:tblGrid>
                <a:gridCol w="4267080"/>
                <a:gridCol w="1295640"/>
                <a:gridCol w="1371600"/>
                <a:gridCol w="1295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are happ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spend time with m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teachers like ki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talk with kids informall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play and have fu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n adult in my school I could talk to if I had a proble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70572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 Johnston,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ww.middleweb.co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762120"/>
            <a:ext cx="1752840" cy="556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ke home point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sonaliz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wo-way communic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e vital when working with disaffected learner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e3e3ff"/>
                </a:solidFill>
                <a:uFillTx/>
                <a:latin typeface="Arial"/>
              </a:rPr>
              <a:t>Collaborative Classroom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is like a helium filled hula hoop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324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Kids are Different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len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at are they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65200">
            <a:off x="4420080" y="31240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ant feedback to be timely and two w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lenials See Leadership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particip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actical Strategies for At-Risk Stud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t students at the do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(do 10 out of 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ggravate th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Culture in Your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 –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fanfiction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ubrics… begin with the end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this more frequ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Remember this?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img023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5334120"/>
            <a:ext cx="47246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629400" y="3962520"/>
            <a:ext cx="1447920" cy="13716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id you get to be as good as you ar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5840" y="1774800"/>
            <a:ext cx="6232320" cy="3319200"/>
            <a:chOff x="1455840" y="1774800"/>
            <a:chExt cx="6232320" cy="3319200"/>
          </a:xfrm>
        </p:grpSpPr>
        <p:sp>
          <p:nvSpPr>
            <p:cNvPr id="150" name="_s12297"/>
            <p:cNvSpPr/>
            <p:nvPr/>
          </p:nvSpPr>
          <p:spPr>
            <a:xfrm>
              <a:off x="3728880" y="2363760"/>
              <a:ext cx="1686240" cy="16858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2298"/>
            <p:cNvSpPr/>
            <p:nvPr/>
          </p:nvSpPr>
          <p:spPr>
            <a:xfrm>
              <a:off x="3728880" y="17748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titu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2295"/>
            <p:cNvSpPr/>
            <p:nvPr/>
          </p:nvSpPr>
          <p:spPr>
            <a:xfrm>
              <a:off x="4282920" y="3325680"/>
              <a:ext cx="1686240" cy="16858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2296"/>
            <p:cNvSpPr/>
            <p:nvPr/>
          </p:nvSpPr>
          <p:spPr>
            <a:xfrm>
              <a:off x="600228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299"/>
            <p:cNvSpPr/>
            <p:nvPr/>
          </p:nvSpPr>
          <p:spPr>
            <a:xfrm>
              <a:off x="3173400" y="3324240"/>
              <a:ext cx="1685880" cy="16858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2300"/>
            <p:cNvSpPr/>
            <p:nvPr/>
          </p:nvSpPr>
          <p:spPr>
            <a:xfrm>
              <a:off x="145584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ki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type of teacher will you b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562720" y="4029120"/>
            <a:ext cx="22669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22:12Z</dcterms:created>
  <dc:creator>Information Technology</dc:creator>
  <dc:description/>
  <dc:language>en-US</dc:language>
  <cp:lastModifiedBy>User</cp:lastModifiedBy>
  <dcterms:modified xsi:type="dcterms:W3CDTF">2010-02-16T19:09:23Z</dcterms:modified>
  <cp:revision>11</cp:revision>
  <dc:subject/>
  <dc:title>Engaging the Disaffected Learner </dc:title>
</cp:coreProperties>
</file>